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AF5-2962-44FC-969A-4E41F223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73A-1C8C-4244-96BE-C66D2B0A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B98-3D31-4946-85A0-2C731C6B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BD9-0144-4B42-B9DD-252D8A53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5B9E-D7E4-434F-B57C-5E099779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A07D-CBAA-40FB-AFAE-9E5E932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A98E-55E8-4112-A128-52FE8964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34CC-2FE5-4625-8C8E-CA301ADB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48C9-6D9B-4CA5-BF9C-966039B0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181C-F832-4F59-9D98-1113AF3E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D506-654D-4295-BBF8-2D48DB6E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F67-F496-4B90-A56B-E39F992A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BB95-D0CF-4A43-BEB5-087FEC1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553C-E15E-4838-86A5-B303C641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BEFB-D031-4573-BB6F-7400F771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6103-B401-4EA4-A803-D1326551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C3DF-1060-4CC3-A3BE-78A2C50A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D5C-FE10-4FC9-A58E-BA7108EB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B0B-10E6-4223-8412-70D53454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F66-B983-4F89-9FAF-9517D091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F0E-B38C-4122-98FC-1804BE4D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A2D-230F-42DC-A18E-3B24C8D7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BE6-8124-47D8-972B-FE1C8D3B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DD7-DD88-4C4A-98CC-C3421026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09BC-06A2-426C-9D42-C283A10A28E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3A92-6C26-4933-BB3B-6BEA6E05C23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990720"/>
            <a:ext cx="6870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ere do parents put Christmas presents for their children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5312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90096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n 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stockings or socks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09:5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